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5099-3B0C-405E-8B02-96A9E753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4AE1-D3A9-4A83-B7B2-A326B5BD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3BAF-B6F1-4D06-B39E-DD8FDE187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1C07-AE14-4EAA-BB7C-9E5F0E689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D7F7-FDA5-443A-BD7E-50A68684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1639-E5A1-458A-B945-46D1B642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535C-F2DB-48E7-A0B7-CD60D08D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0D6C-95A9-4F98-AC7D-A6D0A5D6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3D4E-7D23-4A2E-AE84-4F048A20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D0CD-4D02-4ED7-A900-6B76536D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7579-CBCE-4ED9-BD20-2591262B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2B60-B0F9-4C43-8F8A-1F80E63E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AEDD-6C0D-4883-B7E4-CA0A7317CE7C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APITOL 1</a:t>
            </a: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Calibri"/>
              </a:rPr>
              <a:t>SISTEME DE OPER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Calibri"/>
              </a:rPr>
              <a:t>NAVIGARE W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RE DIRECTOR PROI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Substituent conținut 2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REARE FISIER SUNET  -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ine 1" descr=""/>
          <p:cNvPicPr/>
          <p:nvPr/>
        </p:nvPicPr>
        <p:blipFill>
          <a:blip r:embed="rId1"/>
          <a:stretch/>
        </p:blipFill>
        <p:spPr>
          <a:xfrm>
            <a:off x="571680" y="1285920"/>
            <a:ext cx="4410000" cy="3305160"/>
          </a:xfrm>
          <a:prstGeom prst="rect">
            <a:avLst/>
          </a:prstGeom>
          <a:ln w="0">
            <a:noFill/>
          </a:ln>
        </p:spPr>
      </p:pic>
      <p:pic>
        <p:nvPicPr>
          <p:cNvPr id="47" name="Imagine 4" descr=""/>
          <p:cNvPicPr/>
          <p:nvPr/>
        </p:nvPicPr>
        <p:blipFill>
          <a:blip r:embed="rId2"/>
          <a:stretch/>
        </p:blipFill>
        <p:spPr>
          <a:xfrm>
            <a:off x="4357800" y="3143160"/>
            <a:ext cx="461016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REARE FISIER AUDIO CU FUND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Imagine 4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3807000" cy="2857320"/>
          </a:xfrm>
          <a:prstGeom prst="rect">
            <a:avLst/>
          </a:prstGeom>
          <a:ln w="0">
            <a:noFill/>
          </a:ln>
        </p:spPr>
      </p:pic>
      <p:pic>
        <p:nvPicPr>
          <p:cNvPr id="50" name="Imagine 10" descr=""/>
          <p:cNvPicPr/>
          <p:nvPr/>
        </p:nvPicPr>
        <p:blipFill>
          <a:blip r:embed="rId2"/>
          <a:stretch/>
        </p:blipFill>
        <p:spPr>
          <a:xfrm>
            <a:off x="4714920" y="1428840"/>
            <a:ext cx="3881520" cy="2916000"/>
          </a:xfrm>
          <a:prstGeom prst="rect">
            <a:avLst/>
          </a:prstGeom>
          <a:ln w="0">
            <a:noFill/>
          </a:ln>
        </p:spPr>
      </p:pic>
      <p:pic>
        <p:nvPicPr>
          <p:cNvPr id="51" name="Imagine 34" descr=""/>
          <p:cNvPicPr/>
          <p:nvPr/>
        </p:nvPicPr>
        <p:blipFill>
          <a:blip r:embed="rId3"/>
          <a:stretch/>
        </p:blipFill>
        <p:spPr>
          <a:xfrm>
            <a:off x="2143080" y="3500280"/>
            <a:ext cx="40338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REARE W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CREARE PAGINI WIKI </a:t>
            </a:r>
            <a:br>
              <a:rPr sz="4000"/>
            </a:b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– ADAUGARE FISI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ADAUGARE IMAGINI SUNETE PE WIK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POSTARE EVALUARI PE W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3:45:57Z</dcterms:created>
  <dc:creator>user</dc:creator>
  <dc:description/>
  <dc:language>en-US</dc:language>
  <cp:lastModifiedBy>Manuela</cp:lastModifiedBy>
  <dcterms:modified xsi:type="dcterms:W3CDTF">2012-02-12T20:32:33Z</dcterms:modified>
  <cp:revision>2</cp:revision>
  <dc:subject/>
  <dc:title>CAPITOL 1  </dc:title>
</cp:coreProperties>
</file>